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F640-3040-42EF-B02D-F7B2BD0E57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6363-6244-4F4C-B015-F6C50B519D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23A-A1F5-404F-9D5B-5B9E35D1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C15-5613-4D5F-99AD-07715E56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ED6-43B5-4A10-A9FC-BBEC04DF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8BF-1625-47BD-ABC3-BC99B3FF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68AA6-4A1F-4F6F-A3A3-106F1356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88F32-1125-4C59-AF1D-810CD9C1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03FEF-14ED-4D56-B0E0-565E06F4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88A5B-C428-47FA-91F4-2F93F809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B0259-9730-45D5-A108-9C3793AB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1C921-036A-417B-AFE9-AAF4CE8C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6EB20-F076-4747-82BF-B6E59E6A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551-E492-4D0D-8131-99EEAA10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23DD5-4EE1-42B6-923C-07C84909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88D30-AA74-4D44-86E4-0AB63884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B7101-37F7-4B32-962A-95D6B5E0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81405-BD8A-4F89-82DE-BC1ECB71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08A95-9B1D-498A-9451-DD038D6D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702D6-F1FA-4DF9-B371-FB62975E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889A-771C-43C8-968C-104677C1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E9E8-4FF0-403D-93B1-C5586F70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E5C30-0DE6-461D-A7A2-C0904F4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31E09-E0CC-408B-B7A5-0BD52826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357-A3EA-4035-A5EB-4418AB32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7BAB-A050-472E-B05D-5DAF4F57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B2DA-871B-411F-B44A-959CB617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0C3C-8EB2-4E85-8273-61756BEC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4F1D-F061-4264-B4BF-914D38B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D899-0B6A-4E0B-BC6A-C98D7D30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8A625-CBEE-47C3-9186-2D26B01A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D396-93DE-4528-93F0-A31E3356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EDDE8-C49C-4B77-AD26-0545E7A2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CA60-F2C3-471C-93B6-0C4F97E4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034F6-4364-40BC-B275-95D9527B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3FB-4177-4EE9-918A-F176FD92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CFAC-8DC6-42FE-9666-1DF5E96E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5E0A9-3399-4E4D-997F-C19DEABE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D3A3F-A7D9-4305-B6CE-E95E33E8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98906-3F61-47E5-B1AE-1746ABF6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707C-F1EF-44F3-8144-206E6F13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FA5A-0450-4C22-900F-DBA7CC08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2C044-756B-49A1-BA4A-5ECD22BD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AE32-4AA8-44E5-A4C5-54581A04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499E1-ACE0-4D0D-9EA8-C6C25EFA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226D1-97FB-4A23-A25A-4C258827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C25-47E5-44BC-92C5-82972742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919F-BBF5-4EE8-84B3-36F69F68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31291-4C6F-4774-85D3-D6B8D31D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EE2BC-BBDC-4780-A01D-3E0C6CC5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0C73B-1A82-4F0D-A4DF-14683183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33ABA-345F-45AB-B754-50E5F7A1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C565-837C-4196-AA65-0CFE334A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2A9D-BC64-42EA-8858-42CA669D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F16B3-EE93-4A9C-9269-06B9580F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36F4A-D5E2-498F-8C02-7E934761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C1FB5-DF2E-4A20-BD26-8F804C43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D39-CAAF-4438-80C5-C7FB2501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BABA2-BDAF-4EBA-8CC2-BAC229B3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AEDB5-4F34-41BD-B91E-63A60FD6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17D52-08E3-4E4F-A872-8D57AD43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88D10-CB3B-4E7B-8256-FD4DC9AD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5E177-37A8-456A-A531-ADAE9478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BB0C5-9095-475A-B627-32CB6242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541C8-7EB7-415D-B95E-6FB9D850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960D9-54E2-4711-9854-B4BB1720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88C81-889F-4815-9C53-7443F089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58DE-17A0-4DE1-80AA-B6A6CB1B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F43-290C-4505-B775-7D3FF21C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51ED7-82CF-454D-8954-46DC5833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BA1A3-79F8-4E78-8387-FDA9FFAB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098CF-7977-4FD1-BDD6-688AE707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3F8B-B546-4B40-BC8B-CCAE1FA3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7E918-682B-48FC-B0C4-4AD41004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2AD4B-9DB3-4953-82AF-E43D18C6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CEDA5-6CCA-462E-B823-C6FBA3BD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7532E-D905-4796-9A75-7839DDA3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EE08E-20BF-4E00-B299-7441D6E0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B0E2C-E5CB-422B-9434-BB16D1BE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8FE-AC5C-4DD8-8E72-0C40896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4E01D-A695-4278-B4CD-D209EEDC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F013B-F9F6-4A74-B23D-ADBD518B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DFFB6-366A-4C03-BCA4-FA1679F1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6A384-43B8-4945-A75E-CF9826AB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F8329-D43F-4C58-AD4C-A18B7EAC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2DCA5-E565-443F-AC49-E3973E8F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2B359-30F6-41D1-AE06-5EF75ACD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82B8E-C56D-4A48-94E3-0EC1E8D7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A3B65-BF97-4E5E-A3C8-61438CD9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A5B39-6EF4-4290-ACE5-E1D4A180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AC8-34D2-4A83-AD27-1984E4CF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26BEE-D004-4F10-AB4E-869388CE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D4747-1283-4175-93EC-24E16E85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1C73D-0627-476C-A675-20581F71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6B85E-EAB5-4C51-B7A9-74FEBCBD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DFC21-6432-4124-9F75-CA000EF2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3DFAA-979C-4CC4-B2CD-35EBDB9F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A3B05-67CB-422B-9E33-DF297E4B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92C3-CC40-429A-807E-7CE4C548BBA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24E5-1042-4D6F-9ED4-4FE19F531183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3DB0-ADFE-4B6A-987F-F97090DE1574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41B9-33B9-4010-ADF2-E654E2B2423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0DD2-CE32-4A62-A1C7-2BE2B948A4D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6C3A-94D7-4FF4-AA3A-5D712116E42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BF00-E7BB-462C-9B6D-DA78A1496BF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4C49-0E25-4B74-9FF6-8C49548C753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375d3a"/>
                </a:solidFill>
                <a:latin typeface="Calisto MT"/>
              </a:rPr>
              <a:t>CAT 3 – Partons en voyag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66320" y="28954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sto MT"/>
              </a:rPr>
              <a:t>Leçon 3 A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75d3a"/>
                </a:solidFill>
                <a:latin typeface="Calisto MT"/>
              </a:rPr>
              <a:t>Les prépositions devant les noms de villes  et de pays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5000"/>
          </a:bodyPr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 vous!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renez une feuille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aites 2 colonnes: Masc – Fem – Plur-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ous dis un nom de pays et vous devez le mettre dans la bonne colon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0520" y="1980720"/>
            <a:ext cx="403884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Itali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spag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ranc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apon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hi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hilippines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0" name="Rectangle 3"/>
          <p:cNvSpPr/>
          <p:nvPr/>
        </p:nvSpPr>
        <p:spPr>
          <a:xfrm flipH="1">
            <a:off x="4571280" y="1981080"/>
            <a:ext cx="388620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ar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Bré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Ken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57200" y="1905120"/>
          <a:ext cx="8229600" cy="5029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97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t AVEC 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80880" y="1371600"/>
          <a:ext cx="8534520" cy="55627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32511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5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xceptions 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2120" y="2286000"/>
          <a:ext cx="7010280" cy="285588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9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ex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4000"/>
          </a:bodyPr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Où est –ce que je vais? Je vous dis la ville, vous devez me dire le pays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Vous devez complétez la phrase avec la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bonne préposition 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our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ville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uis, trouvez de quel pays il s’agit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Complétez avec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bonne préposition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renez un tableau et écrivez la préposition qui manque sur le tableau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odè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images-1.jpeg"/>
          <p:cNvPicPr/>
          <p:nvPr/>
        </p:nvPicPr>
        <p:blipFill>
          <a:blip r:embed="rId1"/>
          <a:stretch/>
        </p:blipFill>
        <p:spPr>
          <a:xfrm>
            <a:off x="6629400" y="1676520"/>
            <a:ext cx="1616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0880" y="1981080"/>
            <a:ext cx="8102880" cy="41450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Rappel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adrid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p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9" descr="images-2.jpeg"/>
          <p:cNvPicPr/>
          <p:nvPr/>
        </p:nvPicPr>
        <p:blipFill>
          <a:blip r:embed="rId1"/>
          <a:stretch/>
        </p:blipFill>
        <p:spPr>
          <a:xfrm>
            <a:off x="5638680" y="1523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Québec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8" descr="DownloadedFile-1.jpeg"/>
          <p:cNvPicPr/>
          <p:nvPr/>
        </p:nvPicPr>
        <p:blipFill>
          <a:blip r:embed="rId1"/>
          <a:stretch/>
        </p:blipFill>
        <p:spPr>
          <a:xfrm>
            <a:off x="5638680" y="1600200"/>
            <a:ext cx="27496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4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Rom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Ita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images-1.jpeg"/>
          <p:cNvPicPr/>
          <p:nvPr/>
        </p:nvPicPr>
        <p:blipFill>
          <a:blip r:embed="rId1"/>
          <a:stretch/>
        </p:blipFill>
        <p:spPr>
          <a:xfrm>
            <a:off x="5257800" y="1219320"/>
            <a:ext cx="3033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5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oscou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8" descr="images-4.jpeg"/>
          <p:cNvPicPr/>
          <p:nvPr/>
        </p:nvPicPr>
        <p:blipFill>
          <a:blip r:embed="rId1"/>
          <a:stretch/>
        </p:blipFill>
        <p:spPr>
          <a:xfrm>
            <a:off x="5257800" y="114300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6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Genèv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i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images-3.jpeg"/>
          <p:cNvPicPr/>
          <p:nvPr/>
        </p:nvPicPr>
        <p:blipFill>
          <a:blip r:embed="rId1"/>
          <a:stretch/>
        </p:blipFill>
        <p:spPr>
          <a:xfrm>
            <a:off x="5562720" y="1752480"/>
            <a:ext cx="26906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7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Tokyo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images-5.jpeg"/>
          <p:cNvPicPr/>
          <p:nvPr/>
        </p:nvPicPr>
        <p:blipFill>
          <a:blip r:embed="rId1"/>
          <a:stretch/>
        </p:blipFill>
        <p:spPr>
          <a:xfrm>
            <a:off x="5715000" y="1676520"/>
            <a:ext cx="25430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8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bidja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images-1.jpeg"/>
          <p:cNvPicPr/>
          <p:nvPr/>
        </p:nvPicPr>
        <p:blipFill>
          <a:blip r:embed="rId1"/>
          <a:stretch/>
        </p:blipFill>
        <p:spPr>
          <a:xfrm>
            <a:off x="5181480" y="1676520"/>
            <a:ext cx="3114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9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tlanta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ats-U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8" descr="images.jpeg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Berli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1" descr="images-2.jpeg"/>
          <p:cNvPicPr/>
          <p:nvPr/>
        </p:nvPicPr>
        <p:blipFill>
          <a:blip r:embed="rId1"/>
          <a:stretch/>
        </p:blipFill>
        <p:spPr>
          <a:xfrm>
            <a:off x="5181480" y="12193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exico City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x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"/>
          <p:cNvSpPr/>
          <p:nvPr/>
        </p:nvSpPr>
        <p:spPr>
          <a:xfrm>
            <a:off x="274320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8" descr="images-3.jpeg"/>
          <p:cNvPicPr/>
          <p:nvPr/>
        </p:nvPicPr>
        <p:blipFill>
          <a:blip r:embed="rId1"/>
          <a:stretch/>
        </p:blipFill>
        <p:spPr>
          <a:xfrm>
            <a:off x="5880240" y="1060560"/>
            <a:ext cx="2514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980720"/>
            <a:ext cx="8102880" cy="34290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7000"/>
          </a:bodyPr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Questions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sto MT"/>
              </a:rPr>
              <a:t>Regardez les prépositions devant Paris et France? 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Devant un nom de villes (pour dire où on est, ou où on va, on doit utiliser)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À + nom de la vil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x. Nous habitons _____   Fairfield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4" name="Picture 3" descr="images.jpeg"/>
          <p:cNvPicPr/>
          <p:nvPr/>
        </p:nvPicPr>
        <p:blipFill>
          <a:blip r:embed="rId1"/>
          <a:stretch/>
        </p:blipFill>
        <p:spPr>
          <a:xfrm>
            <a:off x="2971800" y="304812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4574880" y="1905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main, nous allons _____   New York 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503208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DownloadedFile.jpeg"/>
          <p:cNvPicPr/>
          <p:nvPr/>
        </p:nvPicPr>
        <p:blipFill>
          <a:blip r:embed="rId1"/>
          <a:stretch/>
        </p:blipFill>
        <p:spPr>
          <a:xfrm>
            <a:off x="2514600" y="320040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our les vacances, nous allons _____   Miami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670860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DownloadedFile-1.jpeg"/>
          <p:cNvPicPr/>
          <p:nvPr/>
        </p:nvPicPr>
        <p:blipFill>
          <a:blip r:embed="rId1"/>
          <a:stretch/>
        </p:blipFill>
        <p:spPr>
          <a:xfrm>
            <a:off x="2401920" y="3173400"/>
            <a:ext cx="32130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2743200"/>
          <a:ext cx="7848720" cy="1951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7200" y="2743200"/>
          <a:ext cx="7848720" cy="19350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ETATS-U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21:55:37Z</dcterms:created>
  <dc:creator>Mr. Smith</dc:creator>
  <dc:description/>
  <dc:language>en-US</dc:language>
  <cp:lastModifiedBy>Viviane Grebert</cp:lastModifiedBy>
  <dcterms:modified xsi:type="dcterms:W3CDTF">2011-12-08T19:00:34Z</dcterms:modified>
  <cp:revision>104</cp:revision>
  <dc:subject/>
  <dc:title>Allez, viens! – Level 2</dc:title>
</cp:coreProperties>
</file>